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85B3-6348-428B-9249-9E5E8E97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DFF9-5DF1-49BD-8D36-520F01F5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44AD-5DF5-46A2-AC73-28B4C3B6F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4D06-9D5B-4AC6-A77A-2908746B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EBC3-C08C-4694-9B01-98DAAA046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28AD-267A-4C10-9A95-172FF47A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C4E8-8E7D-4CB5-87D6-AAD1BB46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606B-2103-4708-A98D-26C2EF2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4BD4-2E21-480F-BC61-491AAF3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03E8-A61A-4798-87D0-84155B47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0356-18A0-4DEA-94BC-3B4DE445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AD4F-2CC1-4986-8B85-6E86E6B1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6CDA-603E-40F2-BFE5-E4489C4FD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45F0-41C1-4C2D-959E-B75FEB22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B220-AD29-454D-87DC-0AB66329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DE11-0850-4681-94E6-3CC8279A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64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599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64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ACFC-C966-4DC1-8091-BFC0F6DA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904-2EE3-4FF9-B0E5-65ADD05C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4343-21FD-4DBC-8F5D-843DA07C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85B6-2E04-49A9-9EA1-1763712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9876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4FC-1292-4DB8-9A67-F4E5724B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FE5C-F72A-4B4C-86D2-0AD7795F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88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71EC-4D46-46B3-9534-70973730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88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996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1BD-953B-4490-8CE4-BAF3919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7FC0-3038-4483-B2E3-C4C27A20E625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876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996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c118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118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4C76-75E0-47A0-8C02-5F316FA151A7}" type="slidenum">
              <a:rPr b="0" lang="en-US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46040" y="1902960"/>
            <a:ext cx="464796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Circulatory System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: Arteri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3504960"/>
            <a:ext cx="7162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Arteries carry blood away from the heart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 largest arteries are elastic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As arteries get further from the heart they get smaller, these are called arteriole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9" name="Picture 4" descr="ather_lowres"/>
          <p:cNvPicPr/>
          <p:nvPr/>
        </p:nvPicPr>
        <p:blipFill>
          <a:blip r:embed="rId1"/>
          <a:srcRect l="4687" t="0" r="4762" b="55636"/>
          <a:stretch/>
        </p:blipFill>
        <p:spPr>
          <a:xfrm>
            <a:off x="2743200" y="1406520"/>
            <a:ext cx="365292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: Capillari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Capillaries are microscopic blood vessels that are found in every body tissue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re are several million capillaries found in the circulatory system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12" name="Picture 4" descr="capillaries"/>
          <p:cNvPicPr/>
          <p:nvPr/>
        </p:nvPicPr>
        <p:blipFill>
          <a:blip r:embed="rId1"/>
          <a:stretch/>
        </p:blipFill>
        <p:spPr>
          <a:xfrm>
            <a:off x="304920" y="23623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: Vein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495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hen capillaries come together they form vein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ins are responsible for taking blood back to the heart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ithin veins there are valves that allow blood to flow to the heart, but not in the opposite direction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15" name="Picture 4" descr="bigstockphoto_heart_and_veins_2034940"/>
          <p:cNvPicPr/>
          <p:nvPr/>
        </p:nvPicPr>
        <p:blipFill>
          <a:blip r:embed="rId1"/>
          <a:stretch/>
        </p:blipFill>
        <p:spPr>
          <a:xfrm>
            <a:off x="5530680" y="1600200"/>
            <a:ext cx="33372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Hear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heart is divided into four chambers: two atria and two ventricle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ins enter the atria while arteries leave from the ventricle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lso, there is an atriovencular valve which allows blood to flow in one direction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18" name="Picture 4" descr="heart1"/>
          <p:cNvPicPr/>
          <p:nvPr/>
        </p:nvPicPr>
        <p:blipFill>
          <a:blip r:embed="rId1"/>
          <a:stretch/>
        </p:blipFill>
        <p:spPr>
          <a:xfrm>
            <a:off x="5181480" y="2286000"/>
            <a:ext cx="37339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Heartbeat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 heartbeat is the movement of the heart which pumps blood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It is made up of three phases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trial Systole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ntricular Systole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Diastole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21" name="Picture 5" descr="heartbeat"/>
          <p:cNvPicPr/>
          <p:nvPr/>
        </p:nvPicPr>
        <p:blipFill>
          <a:blip r:embed="rId1"/>
          <a:stretch/>
        </p:blipFill>
        <p:spPr>
          <a:xfrm>
            <a:off x="4876920" y="3505320"/>
            <a:ext cx="3873240" cy="30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ardiac Cycle Phase 1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189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Atrial Systole occurs when: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atria contract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is pumped through the ventricl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travels through the open antriovencular valv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24" name="Picture 4" descr="cardiac cycle"/>
          <p:cNvPicPr/>
          <p:nvPr/>
        </p:nvPicPr>
        <p:blipFill>
          <a:blip r:embed="rId1"/>
          <a:srcRect l="0" t="0" r="68403" b="38656"/>
          <a:stretch/>
        </p:blipFill>
        <p:spPr>
          <a:xfrm>
            <a:off x="685800" y="1905120"/>
            <a:ext cx="333360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ardiac Cycle Phase 2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Ventricular Systole occurs when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ventricles contract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Sigmoid valves open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flows out into the pulmonary artery and aorta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t the same time, valves in ventricles and aorta close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27" name="Picture 4" descr="cardiac cycle"/>
          <p:cNvPicPr/>
          <p:nvPr/>
        </p:nvPicPr>
        <p:blipFill>
          <a:blip r:embed="rId1"/>
          <a:srcRect l="30186" t="869" r="37241" b="36830"/>
          <a:stretch/>
        </p:blipFill>
        <p:spPr>
          <a:xfrm>
            <a:off x="685800" y="1905120"/>
            <a:ext cx="32115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Cardiac Cycle Phase 3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038120" y="1981080"/>
            <a:ext cx="434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Diastole occurs when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heart relax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is drawn from the venae cavae and pulmonary vein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blood flows into the atria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30" name="Picture 4" descr="cardiac cycle"/>
          <p:cNvPicPr/>
          <p:nvPr/>
        </p:nvPicPr>
        <p:blipFill>
          <a:blip r:embed="rId1"/>
          <a:srcRect l="67987" t="0" r="0" b="36830"/>
          <a:stretch/>
        </p:blipFill>
        <p:spPr>
          <a:xfrm>
            <a:off x="609480" y="1981080"/>
            <a:ext cx="315936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The Basic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59960" y="198108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 main components of the circulatory system are the heart, blood vessels, and blood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ogether these components circulate blood through out the body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5" name="Picture 4" descr="circulatory system 4"/>
          <p:cNvPicPr/>
          <p:nvPr/>
        </p:nvPicPr>
        <p:blipFill>
          <a:blip r:embed="rId1"/>
          <a:stretch/>
        </p:blipFill>
        <p:spPr>
          <a:xfrm>
            <a:off x="4876920" y="1295280"/>
            <a:ext cx="2922480" cy="53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Composition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1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Blood is a viscous, or sticky, fluid which flows inside the vessels of the circulatory system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re is approximately 5.5 Litres of blood in the human body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88" name="Picture 4" descr="blood_transfusion"/>
          <p:cNvPicPr/>
          <p:nvPr/>
        </p:nvPicPr>
        <p:blipFill>
          <a:blip r:embed="rId1"/>
          <a:stretch/>
        </p:blipFill>
        <p:spPr>
          <a:xfrm>
            <a:off x="533520" y="2666880"/>
            <a:ext cx="358596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3 Cell Typ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Blood is made up of blood plasma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Within the blood plasma there are 3 types of of cell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Red blood cell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hite Blood Cell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Platelet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1" name="Picture 4" descr="platelets"/>
          <p:cNvPicPr/>
          <p:nvPr/>
        </p:nvPicPr>
        <p:blipFill>
          <a:blip r:embed="rId1"/>
          <a:stretch/>
        </p:blipFill>
        <p:spPr>
          <a:xfrm>
            <a:off x="4572000" y="3124080"/>
            <a:ext cx="39672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Red Blood Cell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62520" y="1676160"/>
            <a:ext cx="4417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Red blood cells are the most common type of blood cell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y are disk shaped and have no nucleu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y contain haemoglobin, the pigment that makes blood red and also transports oxygen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4" name="Picture 4" descr="blood_cells"/>
          <p:cNvPicPr/>
          <p:nvPr/>
        </p:nvPicPr>
        <p:blipFill>
          <a:blip r:embed="rId1"/>
          <a:srcRect l="12862" t="7749" r="11188" b="12871"/>
          <a:stretch/>
        </p:blipFill>
        <p:spPr>
          <a:xfrm>
            <a:off x="533520" y="2209680"/>
            <a:ext cx="3203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30456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White Blood Cell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0320" y="1981080"/>
            <a:ext cx="419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re are fewer white blood cells than red blood cells in the body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White blood cells help protect the body from infection, and eliminate cell debri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re are also 5 different type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97" name="Picture 4" descr="white-red-blood-cells"/>
          <p:cNvPicPr/>
          <p:nvPr/>
        </p:nvPicPr>
        <p:blipFill>
          <a:blip r:embed="rId1"/>
          <a:stretch/>
        </p:blipFill>
        <p:spPr>
          <a:xfrm>
            <a:off x="5181480" y="2514600"/>
            <a:ext cx="36133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: Platelet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Platelets are made up of cell fragments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hese cell fragments contain substances that allow the blood to clot.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0" name="Picture 4" descr="P2560045-Blood_platelets-SPL"/>
          <p:cNvPicPr/>
          <p:nvPr/>
        </p:nvPicPr>
        <p:blipFill>
          <a:blip r:embed="rId1"/>
          <a:stretch/>
        </p:blipFill>
        <p:spPr>
          <a:xfrm>
            <a:off x="2819520" y="1523880"/>
            <a:ext cx="358128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Type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 membranes of the red blood cells contain different protein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se proteins are responsible for creating the different blood type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A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B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AB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Type O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3" name="Picture 4" descr="230px-Blood_Compatibility"/>
          <p:cNvPicPr/>
          <p:nvPr/>
        </p:nvPicPr>
        <p:blipFill>
          <a:blip r:embed="rId1"/>
          <a:stretch/>
        </p:blipFill>
        <p:spPr>
          <a:xfrm>
            <a:off x="3886200" y="3429000"/>
            <a:ext cx="312408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118"/>
                </a:solidFill>
                <a:latin typeface="Trebuchet MS"/>
              </a:rPr>
              <a:t>Blood Vessels</a:t>
            </a:r>
            <a:endParaRPr b="0" lang="en-US" sz="4400" spc="-1" strike="noStrike">
              <a:solidFill>
                <a:srgbClr val="ffc118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Blood vessels allow for blood to circulate through out the body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118"/>
                </a:solidFill>
                <a:latin typeface="Trebuchet MS"/>
              </a:rPr>
              <a:t>There are 3 types of blood vessels.</a:t>
            </a:r>
            <a:endParaRPr b="0" lang="en-US" sz="32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Arteri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Capillarie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d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118"/>
                </a:solidFill>
                <a:latin typeface="Trebuchet MS"/>
              </a:rPr>
              <a:t>Veins</a:t>
            </a:r>
            <a:endParaRPr b="0" lang="en-US" sz="2800" spc="-1" strike="noStrike">
              <a:solidFill>
                <a:srgbClr val="ffc118"/>
              </a:solidFill>
              <a:latin typeface="Trebuchet MS"/>
            </a:endParaRPr>
          </a:p>
        </p:txBody>
      </p:sp>
      <p:pic>
        <p:nvPicPr>
          <p:cNvPr id="106" name="Picture 4" descr="sh331-aa-detail"/>
          <p:cNvPicPr/>
          <p:nvPr/>
        </p:nvPicPr>
        <p:blipFill>
          <a:blip r:embed="rId1"/>
          <a:stretch/>
        </p:blipFill>
        <p:spPr>
          <a:xfrm>
            <a:off x="4191120" y="2895480"/>
            <a:ext cx="2892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8:18:05Z</dcterms:created>
  <dc:creator>Nicole Hornberger</dc:creator>
  <dc:description/>
  <dc:language>en-US</dc:language>
  <cp:lastModifiedBy>Admin</cp:lastModifiedBy>
  <dcterms:modified xsi:type="dcterms:W3CDTF">2012-04-16T14:55:23Z</dcterms:modified>
  <cp:revision>8</cp:revision>
  <dc:subject/>
  <dc:title>The Circulatory System</dc:title>
</cp:coreProperties>
</file>